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831-17EF-4102-8088-B29AAF21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1F2-7F95-4483-A671-456900FB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340-3EF1-467C-BABB-E63251F4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E3C-8903-4BCE-921E-D50ADC90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D5C-3584-4982-A90B-40BB4E76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62A-0BC9-4A71-A374-06635FA3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075-2D46-43F3-82E3-D9B896F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A94-117F-4B90-BD8F-44FF25E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C6B-ACB1-431A-A6E4-F6533B88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059-C7CF-4278-BB7F-81C7D21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702-617F-4A3F-A54E-E360510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7BC-917D-4F40-87E6-5CCA8CD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9C03-A887-436B-BC25-55A5D8097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411480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ـتُ نداءَك يا ربي يُجلجلُ في أعم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صَدىً يتجاوبُ في قلبي معَ النغم الخف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فسِرتُ بهديك في دربي وبي ظمأُ المشت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مَنهلك الصافي العذب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روَّي بـه أمنيات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9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ُروعني صخبُ البحرِ وصوتُ قصيف الرع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آنسُ منك مع الفجر بفيض الرضى  وال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يا مُبدع الكون من يدري سواك بسرِّ  ال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كم فيك يا ربُّ من سرً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	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آياتٍ مُذهـلات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0"/>
            <a:ext cx="2133720" cy="83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إلهي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َ إن أدعو فمالي سواك مجيبُ ندائ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حين أنوءُ بأثقال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ي برضاك عز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28600" y="0"/>
            <a:ext cx="2209680" cy="82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طرحتُ مُناي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وآمالي لديك وكلَ رج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أنت ملاذي ومآلي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يك وفيـ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نجاتـ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9:49:50Z</dcterms:created>
  <dc:creator>SUZANNE.MD</dc:creator>
  <dc:description/>
  <dc:language>en-US</dc:language>
  <cp:lastModifiedBy>HANI SAFI</cp:lastModifiedBy>
  <dcterms:modified xsi:type="dcterms:W3CDTF">2003-05-18T13:12:15Z</dcterms:modified>
  <cp:revision>2</cp:revision>
  <dc:subject/>
  <dc:title>PowerPoint Presentation</dc:title>
</cp:coreProperties>
</file>